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FONDOMUSICAL%2032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B44-01A8-4C31-A04C-4E3E2C4E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624-5EBF-43A5-B396-49530C01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18E-220F-49C2-A9EC-C8B309E9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216-84FE-4CD1-9970-9306899A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F562-BFF6-4156-B75C-509B911C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196E-7680-4842-8977-FB68A177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5946-CC36-41EC-B17F-E2AC809F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5E48-6033-48B6-A71F-0309F2F9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A3C1-6EF7-4AA5-8C73-B1A70F38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AE37-C891-4968-80F5-78DAF381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B9FE-CE90-43A1-8DB2-9825E271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822-F8DA-4299-B118-9DC462E1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2613-2F1C-4591-9357-AFC9BE44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992F-D1F4-4369-B9E7-3FD47549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B7C5-2044-44F5-892F-F01DA42C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701B-56BA-48FD-98A3-5DC2B606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3D0B-F1E9-4BE6-9DAA-3FE8CCE5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662-CDF1-416B-AF9B-92883D2F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C7C-CCEB-4C62-AB8E-3B3D5DF8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AB1-5794-4830-80FE-8E2CDEFE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1D4-C681-47AA-AEF5-3C03E860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915B-3549-431C-B460-205ADD61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EE0-52B3-4774-A431-AB822279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687-740F-4800-9396-12156520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695C-BF74-4EA3-94AE-D040ADAEDAE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AE51-EE25-4BEA-9479-7CCA706FCFD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FONDOMUSICAL%2032.wav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5ffff"/>
                </a:solidFill>
                <a:latin typeface="Tahoma"/>
              </a:rPr>
              <a:t>LA HERMOSURA DE LOS NÚMEROS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165720"/>
            <a:ext cx="2362320" cy="581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340000" y="6165720"/>
            <a:ext cx="2448000" cy="581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716360" y="6165720"/>
            <a:ext cx="2303640" cy="581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020000" y="6165720"/>
            <a:ext cx="212400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Mira esto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con atenció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x 8 + 1 =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x 8 + 2 = 9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 x 8 + 3 = 98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 x 8 + 4 = 987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 x 8 + 5 = 9876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6 x 8 + 6 = 9876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67 x 8 + 7 = 987654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678 x 8 + 8 = 987654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6789 x 8 + 9 = 98765432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¿Y qué te parece     este otro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x 9 + 2 =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x 9 + 3 = 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 x 9 + 4 = 1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 x 9 + 5 = 11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 x 9 + 6 = 111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6 x 9 + 7 = 1111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67 x 9 + 8 = 11111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678 x 9 + 9 = 111111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6789 x 9 +10= 1111111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Este está mejo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x 9 + 7 = 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8 x 9 + 6 = 8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87 x 9 + 5 = 88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876 x 9 + 4 = 888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8765 x 9 + 3 = 8888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87654 x 9 + 2 = 88888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876543 x 9 + 1 = 888888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8765432 x 9 + 0 = 888888888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Brillante, ¿verdad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Mira la simetría               de este otro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893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x 1 =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 x 11 = 1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1 x 111 = 123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11 x 1111 = 12343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111 x 11111 = 1234543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1111 x 111111 = 123456543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11111 x 1111111 = 12345676543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111111 x 11111111 = 1234567876543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1111111 x 111111111=1234567898765432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33:28Z</dcterms:created>
  <dc:creator>Dir. General</dc:creator>
  <dc:description/>
  <dc:language>en-US</dc:language>
  <cp:lastModifiedBy>ETXEA</cp:lastModifiedBy>
  <dcterms:modified xsi:type="dcterms:W3CDTF">2009-12-11T12:05:58Z</dcterms:modified>
  <cp:revision>2</cp:revision>
  <dc:subject/>
  <dc:title>LA HERMOSURA DE LOS NÚMEROS</dc:title>
</cp:coreProperties>
</file>